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495-9166-4050-A3BA-F43C0319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A2E-8E0F-4C32-A4AB-DA0D2A63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23A-6A3F-4EB8-BE39-0D007FA4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13B-2904-422A-9F15-46477CD5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B139-7A4C-4060-A35D-DE5B5219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157A-3E28-4B0D-8B5A-9CCF3E3E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C35F-276C-40CB-AD81-3BF22B94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4B04-8B2E-4B1B-9A33-82B3F21D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1C4B-5C48-40C0-BFD6-FB7A9F1A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202E-4B14-44B1-804F-55023E13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7288-35A5-41E5-BCC8-4E78FAF3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990-B06B-4DC2-A9D9-C5DCE38F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82F1-82AA-402B-A513-D9756E3B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3FEC-F0F8-4AC6-968A-21C912BE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C044-492D-45C5-8412-C1E6785D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8030-3521-4E77-B0B5-6F15B578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2AF2-E5FF-4A27-B985-1CAC2D1C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437-3EC3-4F1C-8CF1-67DD4C99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381-8216-44FC-ABA3-D5E7C23D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32D-C6E8-48A4-851C-13514D88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AF7-FE96-4F1E-A348-3EF3B6B0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329-CA18-438E-8984-49DE4D1A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438-257C-44B3-8DFF-BD4F6B3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695-6193-4730-A470-FF5DD09F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BBAB-1D1E-4E65-8A12-823C6B987B9D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E26C-52B9-4C69-82A1-503F0C267D04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glepoetry.com/" TargetMode="External"/><Relationship Id="rId3" Type="http://schemas.openxmlformats.org/officeDocument/2006/relationships/hyperlink" Target="http://www.gigglepoetry.com/" TargetMode="External"/><Relationship Id="rId4" Type="http://schemas.openxmlformats.org/officeDocument/2006/relationships/hyperlink" Target="http://www.gigglepoetry.com/" TargetMode="External"/><Relationship Id="rId5" Type="http://schemas.openxmlformats.org/officeDocument/2006/relationships/image" Target="../media/image2.png"/><Relationship Id="rId6" Type="http://schemas.openxmlformats.org/officeDocument/2006/relationships/hyperlink" Target="http://www.poetryarchive.org/childrensarchive/home.do" TargetMode="External"/><Relationship Id="rId7" Type="http://schemas.openxmlformats.org/officeDocument/2006/relationships/hyperlink" Target="http://www.poetryarchive.org/childrensarchive/home.do" TargetMode="External"/><Relationship Id="rId8" Type="http://schemas.openxmlformats.org/officeDocument/2006/relationships/hyperlink" Target="http://www.poetryarchive.org/childrensarchive/home.do" TargetMode="External"/><Relationship Id="rId9" Type="http://schemas.openxmlformats.org/officeDocument/2006/relationships/hyperlink" Target="http://www.poetryarchive.org/childrensarchive/home.do" TargetMode="External"/><Relationship Id="rId10" Type="http://schemas.openxmlformats.org/officeDocument/2006/relationships/hyperlink" Target="http://www.poetryarchive.org/childrensarchive/home.do" TargetMode="External"/><Relationship Id="rId11" Type="http://schemas.openxmlformats.org/officeDocument/2006/relationships/image" Target="../media/image2.png"/><Relationship Id="rId12" Type="http://schemas.openxmlformats.org/officeDocument/2006/relationships/hyperlink" Target="http://www.childrenspoetrybookshelf.co.uk/%0Bflashgames/words.html" TargetMode="External"/><Relationship Id="rId13" Type="http://schemas.openxmlformats.org/officeDocument/2006/relationships/image" Target="../media/image2.png"/><Relationship Id="rId14" Type="http://schemas.openxmlformats.org/officeDocument/2006/relationships/hyperlink" Target="http://www.magneticpoetry.com/kidspoetry/playonline.cfm" TargetMode="External"/><Relationship Id="rId15" Type="http://schemas.openxmlformats.org/officeDocument/2006/relationships/hyperlink" Target="http://www.magneticpoetry.com/kidspoetry/playonline.cfm" TargetMode="External"/><Relationship Id="rId16" Type="http://schemas.openxmlformats.org/officeDocument/2006/relationships/hyperlink" Target="http://www.magneticpoetry.com/kidspoetry/playonline.cfm" TargetMode="External"/><Relationship Id="rId17" Type="http://schemas.openxmlformats.org/officeDocument/2006/relationships/hyperlink" Target="http://www.magneticpoetry.com/kidspoetry/playonline.cfm" TargetMode="External"/><Relationship Id="rId18" Type="http://schemas.openxmlformats.org/officeDocument/2006/relationships/hyperlink" Target="http://www.magneticpoetry.com/kidspoetry/playonline.cfm" TargetMode="External"/><Relationship Id="rId19" Type="http://schemas.openxmlformats.org/officeDocument/2006/relationships/image" Target="../media/image2.png"/><Relationship Id="rId20" Type="http://schemas.openxmlformats.org/officeDocument/2006/relationships/hyperlink" Target="http://www.shockedpoetry.com/index.html" TargetMode="External"/><Relationship Id="rId21" Type="http://schemas.openxmlformats.org/officeDocument/2006/relationships/hyperlink" Target="http://www.shockedpoetry.com/index.html" TargetMode="External"/><Relationship Id="rId22" Type="http://schemas.openxmlformats.org/officeDocument/2006/relationships/hyperlink" Target="http://www.shockedpoetry.com/index.html" TargetMode="External"/><Relationship Id="rId2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loring Poetry for Children with Embedded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trategy Instru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5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2438280"/>
            <a:ext cx="7391520" cy="1600200"/>
          </a:xfrm>
          <a:prstGeom prst="rect">
            <a:avLst/>
          </a:prstGeom>
          <a:solidFill>
            <a:srgbClr val="4df47b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etacognitive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eaching Fra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1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 Alou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ntroduc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, and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Defin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Notic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apply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larify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strategy purpos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2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fin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mall and whole group practic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3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et Strategy Use Ge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apply in literature circles and content area studies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4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elf-assessment/goal set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flect, monitor, and increase use of strateg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86600" y="630864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Kelly &amp; Clausen-Grace, 2007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ink back to your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Quick Wr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d you find it difficult to think aloud in front of someone else? Why or why not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d thinking aloud help increase your own understanding of the text? Why/how or why not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ould it help to have a “think-aloud plan” when modeling strategy use for students?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might a “think-aloud plan” look like?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e your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handout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for an example of thinking aloud about Monitoring and Clarifying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e each chapter of the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Kelly &amp; Clausen-Grace book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for other example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 thinking…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you will be asked to create a few of these script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for your book activities and to share/try out your scripts in class.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hink-Aloud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Monitor and Clarify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(Embedded with Poetry)</a:t>
            </a: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Introduc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Defin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e handout 1 for a model/scrip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Notic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Apply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-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Who Hath A Book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e handout 2 for a model/scrip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Your turn to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Notic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Apply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as you read T.S. Eliot’s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Macavity: The Mystery C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Drafting a Think-Aloud Pla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 through the poem and underline places to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monitor and clarif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raft a think-aloud of your fix-up strategies and label it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 1 (T1)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in notes &amp; on poem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raft a student response where they “noticed” what you did.  Label it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tudent 1 (S1)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in notes &amp; on poem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tinue this process with T2/S2; T3/S3; etc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 prepared to share with your partner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25905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To summarize…</a:t>
            </a:r>
            <a:br>
              <a:rPr sz="4000"/>
            </a:b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Why is it effective to blend </a:t>
            </a: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reader response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 to literature and </a:t>
            </a: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cognitive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strategy instruction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 to teach your students how to comprehend what they read?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Benefits of Reader Response View of Literature &amp; Teaching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perience reading succes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eet diverse need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come risk tak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ssume responsibility for learn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ke personal connec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courage higher-level think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nderstand reading as a proces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ppreciate literary qualit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0760" y="632448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Hancock, 2008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00"/>
                </a:solidFill>
                <a:latin typeface="Arial"/>
              </a:rPr>
              <a:t>Benefits of Using the Metacognitive Teaching Framework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promotes discussion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provides a common languag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makes strategy use explicit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provides a routine to help students connect the range of reading strategie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is not text-dependent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helps ALL readers comprehend better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develops a bonded community of literacy learner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86600" y="630864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Kelly &amp; Clausen-Grace, 2007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nre: Chapter 5 Poetr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nre: Chapter 11 Literature as a Model for Wri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xtra Credit: Explore one of the poetry websites and post a comment on the wikispace - it’s EASY!! :-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view questions from reading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ppreciate the use of poetry in the elementary classroom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come familiar with elements of poetry, poets, &amp; online resourc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earn and practice how to embed strategy instruction into poetry readings using a metacognitive framework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articipate in a Poetry Workshop (Book Activity #1) &amp; publish your poem on a wiki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 begin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What questions do you have from your readings?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ur class website/wikispace </a:t>
            </a:r>
            <a:br>
              <a:rPr sz="3200"/>
            </a:b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5uri.wikispaces.com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e Wonder of Poetr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oems can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elcom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children (old and young) into your classroom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ithout overwhelm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those who struggle with read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oems can communicate implicit messages about your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lassroom cultur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oems can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boost self-esteem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nd provide space to laugh about our differenc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opular Poets for Childre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hel Silverstei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Where the Sidewalk Ends;  A Light in the Attic.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Jack Prelutsk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Poems for Laughing Out Loud; A Pizza the Size of the Sun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Judith Viors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If I Were In Charge of the World.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rnold Lobel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Random House Book of Poetry (illustrated); Whiskers &amp; Rhymes.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Kalli Dako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If You’re Not Hear, Please Raise Your Hand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nline Poetry Resourc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Giggle Poetry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gigglepoetry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com/</a:t>
            </a:r>
            <a:r>
              <a:rPr b="1" lang="en-US" sz="3200" spc="-1" strike="noStrike">
                <a:solidFill>
                  <a:srgbClr val="33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e Children’s Poetry Archive</a:t>
            </a:r>
            <a:br>
              <a:rPr sz="32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www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poetryarchiv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org/childrensarchive/hom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.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e Children’s Poetry Bookshelf Word Scramble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http://www.childrenspoetrybookshelf.co.uk/_x000b_flashgames/words.html</a:t>
            </a:r>
            <a:r>
              <a:rPr b="1" lang="en-US" sz="2400" spc="-1" strike="noStrike">
                <a:solidFill>
                  <a:srgbClr val="33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Online Magnetic Poetry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http://www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magneticpoetry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com/kidspoetry/playonlin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.cf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hocked Poetry</a:t>
            </a:r>
            <a:br>
              <a:rPr sz="2400"/>
            </a:b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http://www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shockedpoetry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.com/index.htm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560" y="6248520"/>
            <a:ext cx="82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mework Extra Credit: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ttp://edc425uri.wikispaces.com/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oems do more than rhyme!</a:t>
            </a:r>
            <a:br>
              <a:rPr sz="4400"/>
            </a:b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(Hancock Chapter 5)</a:t>
            </a:r>
            <a:endParaRPr b="0" lang="en-US" sz="28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lements of poem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hyth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hym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ager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igurative langua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ape and Spac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Forms of Poetry</a:t>
            </a:r>
            <a:br>
              <a:rPr sz="4400"/>
            </a:b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(Hancock Chapter 5)</a:t>
            </a:r>
            <a:endParaRPr b="0" lang="en-US" sz="28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Narrativ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- they tell a stor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Lyrical-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captures songlike qualities of language or object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Limerick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- 5 line nonsense verse with certain rhyming sequenc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Free Vers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- no patter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Haiku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- 17 syllables: 5/7/5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Concret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(e.g., acrostic, shape poems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Key Reading Strategi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3429000"/>
            <a:ext cx="2667240" cy="13716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NITO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RIF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228600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DIC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124080"/>
            <a:ext cx="2286000" cy="8384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NEC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25780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51814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ISUALIZ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5053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MMARIZ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019920" y="3885840"/>
            <a:ext cx="304560" cy="304920"/>
          </a:xfrm>
          <a:prstGeom prst="line">
            <a:avLst/>
          </a:prstGeom>
          <a:ln w="381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638320" y="4800600"/>
            <a:ext cx="381240" cy="457200"/>
          </a:xfrm>
          <a:prstGeom prst="line">
            <a:avLst/>
          </a:prstGeom>
          <a:ln w="381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581280" y="4800600"/>
            <a:ext cx="381240" cy="380880"/>
          </a:xfrm>
          <a:prstGeom prst="line">
            <a:avLst/>
          </a:prstGeom>
          <a:ln w="381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809880"/>
            <a:ext cx="380880" cy="0"/>
          </a:xfrm>
          <a:prstGeom prst="line">
            <a:avLst/>
          </a:prstGeom>
          <a:ln w="381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72000" y="2971800"/>
            <a:ext cx="0" cy="457200"/>
          </a:xfrm>
          <a:prstGeom prst="line">
            <a:avLst/>
          </a:prstGeom>
          <a:ln w="381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4:09:59Z</dcterms:created>
  <dc:creator>Julie Coiro</dc:creator>
  <dc:description/>
  <dc:language>en-US</dc:language>
  <cp:lastModifiedBy>Julie Coiro</cp:lastModifiedBy>
  <dcterms:modified xsi:type="dcterms:W3CDTF">2008-09-09T02:30:07Z</dcterms:modified>
  <cp:revision>100</cp:revision>
  <dc:subject/>
  <dc:title>Metacognitive Strategy Instruction to Enhance Reading Comprehension</dc:title>
</cp:coreProperties>
</file>